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9210-83DD-4A26-B80D-7615AF967D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8FAF-7535-4B00-89CE-2FA286744E6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6821-63B2-4111-A307-E6DB3C1D858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C7CB-A0F5-4672-B903-5019EDA8384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91C82-807B-4A6C-A9AD-4FBC615E2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5FD6B-FDB9-4885-987C-35522630F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E0356-771E-490D-98F2-37E0E1129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49F0E-73F3-4F1D-87B5-490D984A3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BAE21D5-B1BF-4E7F-9471-A0F357B27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5EB303-C4AC-4FAE-B0BD-14A70E3A4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C0D6C0-14B0-4050-B817-5CC7A7702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F322D8-D990-49B2-AECB-8A48DE658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F0000C-7AA1-4A96-B538-CF6A4243D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95056B-0CAE-4836-8C59-2F5E86E5C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54010A-E648-45E5-97AC-FDE7B42E3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F77C1-7783-4A5C-A4DB-D955E38C1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12634E-A9F0-48C4-B8C2-41FA874EA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36C33D-175C-4323-8B80-C793762B2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495FCD-FF5B-4E0E-AB83-6CDF1BA97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CCDABE1-F56B-4777-A593-E2E2BD3C5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E4FD36B-7B68-4F77-8D2C-791F5E88A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1243BA-C4D3-4B6D-8339-B4975AC04E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18AF3-FD65-4F7E-8BE7-95290AFBBA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E872C-1991-45D6-8864-F65E7FB79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F3BA53-119F-409A-AC80-9525BCE50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4CD492-B829-4660-9E4F-9D4BDAB312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AA49E-576A-4199-A2C6-9D6E8EA32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7F1F0-D1A1-4C9A-B514-C170B2F3F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C3863-E5D4-4A1B-AD16-F5849440F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F0BA4-A8C4-4DB9-8FCE-C9577E712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AFFD7-9FE0-44C9-8773-F7BE8096D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C16EE-B0B4-4105-B2DB-E2A5A7A97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1BA542-DE4B-47F2-B69E-D8D8F812D5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1BDADD-FA96-4357-9D15-6808700260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F4F6977-88DD-4A14-AF50-847261092B1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75333D5-56BB-48BA-8CB1-4CB700DB0A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DC78EA4-9655-4A4D-811A-448638CB470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D40B9-2109-4692-A3D2-4E90BCD19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FA74BC3-0C76-4C04-885C-A0A699EB900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C9BBB8A-DD95-4054-B740-F590FF22F84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26D49AC-9783-4DE8-A740-1EFD34D8680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91B0301-1C7C-460E-9B4E-619BCA346B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3F1ECE1-0A6E-48A5-AC6B-E2D28C6B38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A7FC3AB-D9F5-4846-8EE3-4174C4A70B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1E6308F-4CCA-4B4C-B451-C4B4D5686AB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4DD9FC2-66C8-4746-B5FA-397753683C5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38C490C-0C07-4A2F-BE64-7594259500B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E236BD1-BC4D-4DDE-8FDD-0B0749E9D4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B00A6-66D2-4EEC-B3AB-53E6B6C47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6813D0-0CF4-45BA-813C-01DFC483A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2098F5-878C-44BB-B0B6-BE00FE931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164546-C3B8-4E9A-9295-7ADC72EEE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48EDDD-2DB8-4AB8-8E2E-0489830661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FDDE23-B0EA-4B84-A7EC-F1181E7BE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1FE096-2AC9-4708-BE19-EE15D3AB3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C66FD6-30CD-40E3-A806-F1116FF8F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9B1618-BF8D-4D0F-9241-3A2889A21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A86B8E-9AB8-4E1C-AC12-49DBF6C70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0EEA6DC-39E6-494B-B0A0-AA2C599061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33C28-22AD-42C7-A526-FF1982EF6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846165D-7C95-4969-BA4D-F16E711AEC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92EFDCE-8413-47EE-8A53-2364958364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3BACEA-B094-40A5-8729-5C76AF5AE6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0E8BEA8-5D92-43F6-BFB3-6430CBBD6D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8B347F-02D3-43D6-917C-80E1EDF81E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96E3A06-A7B6-41AE-95DF-EECB091F0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CE92917-FB17-496B-ACB5-8C6ADB0721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B505004-8ABE-49CA-967D-5C8CFF7174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5C92F3-FF98-4AC6-BCEE-642CFE689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08214B-8951-4F71-8588-3A9BA4C51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1F0C2-EA77-492A-8E28-1C4B60409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992B2E8-5AB2-4490-9FCE-F7026AB6FE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2DC48F8-62D4-4E7A-A8E2-626B52058F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030B2E4-00D0-485E-8D13-3AC9DD2FA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6A429-FD3F-41D4-9307-9C85EB4A6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5236B-7123-4BFD-A778-F610EB595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5C93-FE6B-4EE8-B660-228F8D94842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7D16-429C-4AAF-A4A4-6F3AC2C3C74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9AE8-3D9A-42F6-AA56-9CC2107E15C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67BD-5E61-4882-B8CE-5690EC72809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A100-FADB-4876-A93A-C10F95EC249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410B-59BB-47AA-9963-578A94D23C31}"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371600" y="4952520"/>
            <a:ext cx="6400800" cy="6858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By Bella Bailie</a:t>
            </a:r>
            <a:endParaRPr b="0" lang="en-US" sz="2200" spc="-1" strike="noStrike">
              <a:solidFill>
                <a:srgbClr val="ffffff"/>
              </a:solidFill>
              <a:latin typeface="Constantia"/>
            </a:endParaRPr>
          </a:p>
        </p:txBody>
      </p:sp>
      <p:pic>
        <p:nvPicPr>
          <p:cNvPr id="260" name="Title 1" descr=""/>
          <p:cNvPicPr/>
          <p:nvPr/>
        </p:nvPicPr>
        <p:blipFill>
          <a:blip r:embed="rId2"/>
          <a:stretch/>
        </p:blipFill>
        <p:spPr>
          <a:xfrm>
            <a:off x="682560" y="324000"/>
            <a:ext cx="7785000" cy="1535040"/>
          </a:xfrm>
          <a:prstGeom prst="rect">
            <a:avLst/>
          </a:prstGeom>
          <a:ln w="0">
            <a:noFill/>
          </a:ln>
        </p:spPr>
      </p:pic>
      <p:pic>
        <p:nvPicPr>
          <p:cNvPr id="261" name="Picture 2" descr="http://www.joinafrica.com/Country_Rankings/map_of_africa.gif"/>
          <p:cNvPicPr/>
          <p:nvPr/>
        </p:nvPicPr>
        <p:blipFill>
          <a:blip r:embed="rId3"/>
          <a:stretch/>
        </p:blipFill>
        <p:spPr>
          <a:xfrm>
            <a:off x="2362320" y="1752480"/>
            <a:ext cx="390528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457200" y="1600200"/>
            <a:ext cx="4114800" cy="452592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s is a country in Africa. It is a very poor country in some parts but in others it is very rich. There are school just like here in America. Mostly boys, however, attend school because the girls are busy at work all day. </a:t>
            </a:r>
            <a:endParaRPr b="0" lang="en-US" sz="2600" spc="-1" strike="noStrike">
              <a:solidFill>
                <a:srgbClr val="ffffff"/>
              </a:solidFill>
              <a:latin typeface="Constantia"/>
            </a:endParaRPr>
          </a:p>
        </p:txBody>
      </p:sp>
      <p:pic>
        <p:nvPicPr>
          <p:cNvPr id="263" name="Title 1" descr=""/>
          <p:cNvPicPr/>
          <p:nvPr/>
        </p:nvPicPr>
        <p:blipFill>
          <a:blip r:embed="rId2"/>
          <a:stretch/>
        </p:blipFill>
        <p:spPr>
          <a:xfrm>
            <a:off x="219240" y="146160"/>
            <a:ext cx="8474040" cy="1231920"/>
          </a:xfrm>
          <a:prstGeom prst="rect">
            <a:avLst/>
          </a:prstGeom>
          <a:ln w="0">
            <a:noFill/>
          </a:ln>
        </p:spPr>
      </p:pic>
      <p:pic>
        <p:nvPicPr>
          <p:cNvPr id="264" name="Picture 2" descr="http://en.18dao.net/images/4/49/Map-Democratic_Republic_of_the_Congo.jpg"/>
          <p:cNvPicPr/>
          <p:nvPr/>
        </p:nvPicPr>
        <p:blipFill>
          <a:blip r:embed="rId3"/>
          <a:stretch/>
        </p:blipFill>
        <p:spPr>
          <a:xfrm>
            <a:off x="4648320" y="1752480"/>
            <a:ext cx="3790800" cy="36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txBox="1"/>
          <p:nvPr/>
        </p:nvSpPr>
        <p:spPr>
          <a:xfrm>
            <a:off x="5105520" y="1600200"/>
            <a:ext cx="3581280" cy="4572000"/>
          </a:xfrm>
          <a:prstGeom prst="rect">
            <a:avLst/>
          </a:prstGeom>
          <a:noFill/>
          <a:ln w="0">
            <a:noFill/>
          </a:ln>
        </p:spPr>
        <p:txBody>
          <a:bodyPr lIns="90000" rIns="90000" tIns="46800" bIns="46800" anchor="t">
            <a:normAutofit fontScale="93000"/>
          </a:bodyPr>
          <a:p>
            <a:pPr marL="253440" indent="-2534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fe is very dangerous in Liberia. The speaker came from a very poor part of this country where people would buy dogs to protect their families from lions. Everyone in the families had to work. Some parts of Liberia, however, can be very rich.</a:t>
            </a:r>
            <a:endParaRPr b="0" lang="en-US" sz="2600" spc="-1" strike="noStrike">
              <a:solidFill>
                <a:srgbClr val="ffffff"/>
              </a:solidFill>
              <a:latin typeface="Constantia"/>
            </a:endParaRPr>
          </a:p>
        </p:txBody>
      </p:sp>
      <p:pic>
        <p:nvPicPr>
          <p:cNvPr id="266" name="Title 1" descr=""/>
          <p:cNvPicPr/>
          <p:nvPr/>
        </p:nvPicPr>
        <p:blipFill>
          <a:blip r:embed="rId2"/>
          <a:stretch/>
        </p:blipFill>
        <p:spPr>
          <a:xfrm>
            <a:off x="219240" y="146160"/>
            <a:ext cx="8474040" cy="1231920"/>
          </a:xfrm>
          <a:prstGeom prst="rect">
            <a:avLst/>
          </a:prstGeom>
          <a:ln w="0">
            <a:noFill/>
          </a:ln>
        </p:spPr>
      </p:pic>
      <p:pic>
        <p:nvPicPr>
          <p:cNvPr id="267" name="Picture 2" descr="http://farm1.static.flickr.com/229/479226568_43bf31cd2a.jpg"/>
          <p:cNvPicPr/>
          <p:nvPr/>
        </p:nvPicPr>
        <p:blipFill>
          <a:blip r:embed="rId3"/>
          <a:stretch/>
        </p:blipFill>
        <p:spPr>
          <a:xfrm>
            <a:off x="304920" y="1905120"/>
            <a:ext cx="4762440" cy="345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457200" y="1599840"/>
            <a:ext cx="8229600" cy="205740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Uganda is a very poor country in Africa. Everyone must work for food, shelter, and safety for their family. Music and arts, such as poetry, are very popular in Uganda. The speaker from Uganda performed an interactive song on the drums. It was very entertaining and said a lot about Uganda’s culture.</a:t>
            </a:r>
            <a:endParaRPr b="0" lang="en-US" sz="2400" spc="-1" strike="noStrike">
              <a:solidFill>
                <a:srgbClr val="ffffff"/>
              </a:solidFill>
              <a:latin typeface="Constantia"/>
            </a:endParaRPr>
          </a:p>
        </p:txBody>
      </p:sp>
      <p:pic>
        <p:nvPicPr>
          <p:cNvPr id="269" name="Title 1" descr=""/>
          <p:cNvPicPr/>
          <p:nvPr/>
        </p:nvPicPr>
        <p:blipFill>
          <a:blip r:embed="rId2"/>
          <a:stretch/>
        </p:blipFill>
        <p:spPr>
          <a:xfrm>
            <a:off x="219240" y="146160"/>
            <a:ext cx="8474040" cy="1231920"/>
          </a:xfrm>
          <a:prstGeom prst="rect">
            <a:avLst/>
          </a:prstGeom>
          <a:ln w="0">
            <a:noFill/>
          </a:ln>
        </p:spPr>
      </p:pic>
      <p:pic>
        <p:nvPicPr>
          <p:cNvPr id="270" name="Picture 2" descr="http://harlotssauce.com/wp-content/uploads/2010/12/Uganda-Flag1.gif"/>
          <p:cNvPicPr/>
          <p:nvPr/>
        </p:nvPicPr>
        <p:blipFill>
          <a:blip r:embed="rId3"/>
          <a:stretch/>
        </p:blipFill>
        <p:spPr>
          <a:xfrm>
            <a:off x="457200" y="3784680"/>
            <a:ext cx="4114800" cy="2739960"/>
          </a:xfrm>
          <a:prstGeom prst="rect">
            <a:avLst/>
          </a:prstGeom>
          <a:ln w="0">
            <a:noFill/>
          </a:ln>
        </p:spPr>
      </p:pic>
      <p:pic>
        <p:nvPicPr>
          <p:cNvPr id="271" name="Picture 4" descr="http://www.eaequatorialadventures.com/images/Map-of-Uganda1.jpg"/>
          <p:cNvPicPr/>
          <p:nvPr/>
        </p:nvPicPr>
        <p:blipFill>
          <a:blip r:embed="rId4"/>
          <a:stretch/>
        </p:blipFill>
        <p:spPr>
          <a:xfrm>
            <a:off x="4876920" y="3171960"/>
            <a:ext cx="3724200" cy="36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txBox="1"/>
          <p:nvPr/>
        </p:nvSpPr>
        <p:spPr>
          <a:xfrm>
            <a:off x="4800240" y="228240"/>
            <a:ext cx="3962520" cy="624852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frica, in some parts, is not modernized at all. This makes living conditions very unfavorable. People that live in certain countries, such as Congo, Uganda, or Liberia, face hardships everyday. Life in Africa is very different from life here in the United States. Most children from the US cannot even imagine the lives of children in Africa</a:t>
            </a:r>
            <a:endParaRPr b="0" lang="en-US" sz="2600" spc="-1" strike="noStrike">
              <a:solidFill>
                <a:srgbClr val="ffffff"/>
              </a:solidFill>
              <a:latin typeface="Constantia"/>
            </a:endParaRPr>
          </a:p>
        </p:txBody>
      </p:sp>
      <p:pic>
        <p:nvPicPr>
          <p:cNvPr id="273" name="Title 1" descr=""/>
          <p:cNvPicPr/>
          <p:nvPr/>
        </p:nvPicPr>
        <p:blipFill>
          <a:blip r:embed="rId2"/>
          <a:stretch/>
        </p:blipFill>
        <p:spPr>
          <a:xfrm>
            <a:off x="828720" y="225360"/>
            <a:ext cx="5730840" cy="1152720"/>
          </a:xfrm>
          <a:prstGeom prst="rect">
            <a:avLst/>
          </a:prstGeom>
          <a:ln w="0">
            <a:noFill/>
          </a:ln>
        </p:spPr>
      </p:pic>
      <p:pic>
        <p:nvPicPr>
          <p:cNvPr id="274" name="Picture 2" descr="http://www.etftrends.com/wp-content/uploads/2010/09/fertility_clinics_africa.jpg"/>
          <p:cNvPicPr/>
          <p:nvPr/>
        </p:nvPicPr>
        <p:blipFill>
          <a:blip r:embed="rId3"/>
          <a:stretch/>
        </p:blipFill>
        <p:spPr>
          <a:xfrm>
            <a:off x="304920" y="1905120"/>
            <a:ext cx="4610160" cy="36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10:30:52Z</dcterms:created>
  <dc:creator>bailie</dc:creator>
  <dc:description/>
  <dc:language>en-US</dc:language>
  <cp:lastModifiedBy>WAC</cp:lastModifiedBy>
  <dcterms:modified xsi:type="dcterms:W3CDTF">2011-05-19T17:22:18Z</dcterms:modified>
  <cp:revision>3</cp:revision>
  <dc:subject/>
  <dc:title>Student Ambassador Program Project- Africa</dc:title>
</cp:coreProperties>
</file>